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731-5B16-42D2-A617-FB694BAD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AA5-53C7-4881-AB39-3E5D3FF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A3F-1CF9-45E7-A6BA-25E2C541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9F9-7862-49AC-88FD-1B1454AC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3EB0-8FAE-49A5-8920-5FDC57A3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558D-5C62-4D54-9453-56FF75B8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7CC0-F86B-476B-95F5-99CADBF5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5594-C923-4A12-8243-A8D89515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A388-515C-47C2-AC8A-6446DA1D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6A87-A1B1-4E38-A146-927C4BD3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38D0-1A59-4787-846A-67AD50BD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6DE-EDEC-4073-B194-5A63C973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6E57-4106-46F9-9C55-D6FEC7D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1482-0B42-4A5E-BF6A-691DDD9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47A9-100A-4322-BBD8-C6AC7CFC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4F1F-DEB5-4B6F-ADD5-CF1CC70C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467C-5597-4AFF-A2A3-4334EF7D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5FA-360B-4944-BD1F-C0D593C4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6ED-EDCF-4D77-ACE8-CAACA9A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62C-FCB8-4622-AB58-701869BA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CAE-7210-4A1B-85C8-8A7B4C5F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4AA-DA56-4DA5-9A84-36CB64FC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8D8-F87C-4BF1-AD05-7A836322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D05-C774-4430-A6ED-C9349F3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C83E-2B59-4B5E-920D-DAAC5C5D50EE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C819-F2E4-4555-B7F2-CEE72726FF5C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دخول:</a:t>
            </a:r>
            <a:br>
              <a:rPr sz="7200"/>
            </a:br>
            <a:r>
              <a:rPr b="0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نح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ساهرون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293760"/>
            <a:ext cx="874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404640"/>
            <a:ext cx="79246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كما يومضُ البرق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ـي أفُق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يتألّقُ فـي آخ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6200" y="981000"/>
            <a:ext cx="5257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كذا، مجيءُ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ربِّنا يكون.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366840"/>
            <a:ext cx="8746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14800" y="1916280"/>
            <a:ext cx="456084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ِنفرحنَّ به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كما فرِحَ ب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أنّه سيُفرحُ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ببهاءِ ضيائِه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293760"/>
            <a:ext cx="874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57:59Z</dcterms:created>
  <dc:creator>Charbel Azar</dc:creator>
  <dc:description/>
  <dc:language>en-US</dc:language>
  <cp:lastModifiedBy>Charbel Azar</cp:lastModifiedBy>
  <dcterms:modified xsi:type="dcterms:W3CDTF">2002-07-15T07:47:34Z</dcterms:modified>
  <cp:revision>4</cp:revision>
  <dc:subject/>
  <dc:title>PowerPoint Presentation</dc:title>
</cp:coreProperties>
</file>